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21-8B50-4897-BDB2-77419034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695-665C-415C-ADC6-5FEE4B1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9F4-5EAD-4675-AFED-F82A3E3D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C14-6C01-47D7-B8A0-0476AB5A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53D-1F23-4793-AA04-D2AA90BB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1B1-28D2-4CF4-907C-7C3DAE3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2020-74BD-4688-8C74-5C1060A6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DC2E-6BBE-4B6C-8DE4-F1345199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D00-8D32-46F5-A82C-5B3892C3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6281-AE21-44CF-A67D-4561E29A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3F71-6379-493C-B10E-9372347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C98-7C8D-44D2-9191-E2A5761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8D5-BB78-49D4-818F-2B179C8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7A11-4CAE-4814-B609-56ECFC3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7927-BB10-40DE-81F1-6564C44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5B3A-872B-41BC-AB85-9BC36166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FFF3-F659-48C2-A29C-D34C9B72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5D864-ECC5-4CE0-9D05-62211795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88F42-CC70-41DE-9BE1-5BAF5894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F9CDE-F7F1-43BB-810D-93A9C0B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E9197-76E8-4799-BAEB-1AD99290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0B93F-48C7-4704-B957-C84FB996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AAB-BF7B-47B0-B988-3D2BF48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C58DD-4C6B-41A1-92F6-96C07B1B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A0FF7-DDFD-4B42-BA36-F62AA67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3EB32-FF0B-4B6C-A173-E9C5446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101DD-3459-4A55-A622-65BF27D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6DF7D-3463-4657-B0CB-59CE04FE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C5F35-14B3-4649-BAD8-D198305D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F6899-0ACF-4FD4-920F-6C658D06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445A1-4568-49E1-B1D7-21C15584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C2C2E-A05B-4F62-84B1-3E8BEDE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D75BC-8F8D-4E10-9787-6FFDED8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B3A-6D2E-402A-9D33-D6392268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F4CF7-AA30-4831-8507-3C787A9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0AEB5-4B19-4CB3-8005-91AD25C2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0C6F8-583B-4E5D-BCBB-C97033A5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C9F10-E0FA-4413-98AE-D8B3A88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870D1-F0C7-46E4-A739-F43EA5B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630D0-A3AA-4CB2-9FC4-F985470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3EF21-0BB6-47A8-9011-EDC43008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C86A1-1AEA-45F8-A94C-A03A6899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C9A84-7937-49BD-8ED6-B5C748EE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F4DAF-53A0-4775-AF2C-41354F59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EB9-C48B-4C2F-A670-2B923E5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96EC6-06A2-4CF7-AD66-23776A4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5B23A-FE06-4520-A2EE-D3FAA92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D12EF-A082-4653-87F6-7E64DD4E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ED45D-B54A-49D3-B646-945C994F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1581E-ED2A-4FEF-AEBF-9EC2F677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6B1E6-D481-40F5-A774-FC0BD2D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FD892-638E-4775-820F-7C0AC57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D6D15-A72B-4D12-839E-E17A23B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27ECB-F4BA-44FA-AD1D-D53177C9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EDEFF-5B2F-4FFA-BF45-2780C2E5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9D4-B03F-4274-8B9A-E940890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BF480-8496-411F-ADB7-D5D7652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80DC-2A9A-4D98-BAA4-267B26C0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03DF6-343E-49D1-8516-3B9718E1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4933-DE16-4192-9465-A84D84F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0CFB-4583-4BB1-B61D-1A490EC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33F1F-D85A-4247-A5C6-2B3E332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3FD6-B927-4854-BD87-4C4DD9B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1C2AA-D93E-4165-B405-F887312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2268-B3D4-4D2D-AE11-55CAADA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29AA8-DF6E-4FD5-92DC-B776E1D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A7F-28D8-4DC7-81CD-F0C2477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D5FEC-7D7D-46D4-BF6B-136EBE83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DB94-E25C-4400-96DA-13016441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F03CE-0FD5-47BC-9BD2-90E57DF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6EB5D-A348-4397-8DA4-372DD5E4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30D1B-966E-46C2-B677-18EF56A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4C8F5-7F7A-4206-877F-FA56DA18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7DB21-2423-47F3-A064-08B50BB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E614B-25F6-4792-9CE4-CF92D31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3D737-64DA-4EF9-9E3A-1ECA0A0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2042C-D0FA-48EB-B837-B15D2CE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7B3-A91E-4CF9-A9C4-3811CDB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906C1-62D7-4762-81BF-0E60499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FBDA4-5C23-4919-83C7-7055D00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B97AB-4EFC-48A4-9F1F-439F43A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6760A-D402-4984-A0C5-DEF91499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D637A-7930-4E61-AAFC-C729EB11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12226-CF89-4123-9569-F9066367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FA1EF-80E0-4F84-8B19-1F0D6A5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55312-1A79-4785-8FC9-DCC82AC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600F4-7FB6-476D-A52F-4462F2C2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D8F0-76D5-446A-8744-89F75B84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2E7-5252-48E1-8BC9-F67A2AA0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3C089-E0B6-4FCB-B20B-2025507B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07382-639D-455E-BEAA-0826D2F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3B337-1CAB-4D81-969C-61DB531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C3AA5-40DD-4AF1-B3C6-AF7AA0DA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6668-CF69-41ED-8BB0-BEB0431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7E315-8EF6-41CE-AEE5-D2C2F96C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A79D-EA09-4422-A147-4608508F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5E6-17D9-4EE2-B97C-E822372400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6e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F7E-1E1F-42A7-A068-0C32420E90CC}" type="slidenum">
              <a:rPr b="1" lang="en-US" sz="1400" spc="-1" strike="noStrike">
                <a:solidFill>
                  <a:srgbClr val="d6e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9FA-73A8-449F-8296-7CF256BD1AA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C2BC-3F42-4902-A31E-6ADCCF7B0A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169B-B0E7-4814-8006-C3AF4718783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CAD7-4CC1-44B7-AF57-3A84408397A5}" type="slidenum">
              <a:rPr b="1" lang="en-US" sz="1400" spc="-1" strike="noStrike">
                <a:solidFill>
                  <a:srgbClr val="4e5b6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8D26-7D64-471F-9281-1B07612FF87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0622-9A87-4C6E-B517-7A94301B24A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Kim McLane &amp; Abby Shaff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4" descr=""/>
          <p:cNvPicPr/>
          <p:nvPr/>
        </p:nvPicPr>
        <p:blipFill>
          <a:blip r:embed="rId1"/>
          <a:stretch/>
        </p:blipFill>
        <p:spPr>
          <a:xfrm>
            <a:off x="347760" y="487440"/>
            <a:ext cx="87897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  </a:t>
            </a: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The Multiplier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ultipli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ratio of the change in EGDP divided by the original change in spending that causes the change in GD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4" name="Group 7"/>
          <p:cNvGrpSpPr/>
          <p:nvPr/>
        </p:nvGrpSpPr>
        <p:grpSpPr>
          <a:xfrm>
            <a:off x="3505320" y="3657600"/>
            <a:ext cx="5029200" cy="1008720"/>
            <a:chOff x="3505320" y="3657600"/>
            <a:chExt cx="5029200" cy="1008720"/>
          </a:xfrm>
        </p:grpSpPr>
        <p:sp>
          <p:nvSpPr>
            <p:cNvPr id="355" name="TextBox 4"/>
            <p:cNvSpPr/>
            <p:nvPr/>
          </p:nvSpPr>
          <p:spPr>
            <a:xfrm>
              <a:off x="3505320" y="365760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Multiplier= Change in GDP (Y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    Change in Spending (C, I, G, X-I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6"/>
            <p:cNvSpPr/>
            <p:nvPr/>
          </p:nvSpPr>
          <p:spPr>
            <a:xfrm>
              <a:off x="4786200" y="4003560"/>
              <a:ext cx="3429000" cy="1440"/>
            </a:xfrm>
            <a:prstGeom prst="line">
              <a:avLst/>
            </a:prstGeom>
            <a:ln w="1008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The Multiplier &amp; The MPC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ula in reference to the MPC (oversimplified multiplier formula):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PC (Marginal Propensity to Consume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ratio of changes in consumption relative to changes in disposable income that produce the change in consum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9" name="Group 14"/>
          <p:cNvGrpSpPr/>
          <p:nvPr/>
        </p:nvGrpSpPr>
        <p:grpSpPr>
          <a:xfrm>
            <a:off x="2133720" y="2438280"/>
            <a:ext cx="5029200" cy="1191240"/>
            <a:chOff x="2133720" y="2438280"/>
            <a:chExt cx="5029200" cy="1191240"/>
          </a:xfrm>
        </p:grpSpPr>
        <p:sp>
          <p:nvSpPr>
            <p:cNvPr id="360" name="TextBox 9"/>
            <p:cNvSpPr/>
            <p:nvPr/>
          </p:nvSpPr>
          <p:spPr>
            <a:xfrm>
              <a:off x="2133720" y="2438280"/>
              <a:ext cx="502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w Cen M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w Cen MT"/>
                </a:rPr>
                <a:t>1-MP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13"/>
            <p:cNvSpPr/>
            <p:nvPr/>
          </p:nvSpPr>
          <p:spPr>
            <a:xfrm>
              <a:off x="3962520" y="3047760"/>
              <a:ext cx="1523880" cy="1440"/>
            </a:xfrm>
            <a:prstGeom prst="line">
              <a:avLst/>
            </a:prstGeom>
            <a:ln w="3492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5"/>
          <p:cNvSpPr/>
          <p:nvPr/>
        </p:nvSpPr>
        <p:spPr>
          <a:xfrm>
            <a:off x="3886200" y="51055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∆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9"/>
          <p:cNvSpPr/>
          <p:nvPr/>
        </p:nvSpPr>
        <p:spPr>
          <a:xfrm>
            <a:off x="3886200" y="5506920"/>
            <a:ext cx="685800" cy="1800"/>
          </a:xfrm>
          <a:prstGeom prst="line">
            <a:avLst/>
          </a:prstGeom>
          <a:ln w="10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</a:rPr>
              <a:t>Multiplier Effect of Consumer Spending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Induced Increase in Consump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 increase in consumer spending that stems from an increase in consumer in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Autonomous Increase in Consumptio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 increase in consumer spending without any increased incom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onsumption Func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grpSp>
        <p:nvGrpSpPr>
          <p:cNvPr id="367" name="Group 15"/>
          <p:cNvGrpSpPr/>
          <p:nvPr/>
        </p:nvGrpSpPr>
        <p:grpSpPr>
          <a:xfrm>
            <a:off x="838080" y="1981080"/>
            <a:ext cx="5791320" cy="4192560"/>
            <a:chOff x="838080" y="1981080"/>
            <a:chExt cx="5791320" cy="4192560"/>
          </a:xfrm>
        </p:grpSpPr>
        <p:sp>
          <p:nvSpPr>
            <p:cNvPr id="368" name="Straight Connector 6"/>
            <p:cNvSpPr/>
            <p:nvPr/>
          </p:nvSpPr>
          <p:spPr>
            <a:xfrm flipH="1">
              <a:off x="838080" y="1981080"/>
              <a:ext cx="1440" cy="4191120"/>
            </a:xfrm>
            <a:prstGeom prst="line">
              <a:avLst/>
            </a:prstGeom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traight Connector 8"/>
            <p:cNvSpPr/>
            <p:nvPr/>
          </p:nvSpPr>
          <p:spPr>
            <a:xfrm>
              <a:off x="838080" y="6172200"/>
              <a:ext cx="5791320" cy="1440"/>
            </a:xfrm>
            <a:prstGeom prst="line">
              <a:avLst/>
            </a:prstGeom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 flipV="1">
              <a:off x="1752480" y="434340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11"/>
            <p:cNvSpPr/>
            <p:nvPr/>
          </p:nvSpPr>
          <p:spPr>
            <a:xfrm flipV="1">
              <a:off x="1828440" y="350496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12"/>
            <p:cNvSpPr/>
            <p:nvPr/>
          </p:nvSpPr>
          <p:spPr>
            <a:xfrm flipV="1">
              <a:off x="1904760" y="2742840"/>
              <a:ext cx="3657600" cy="914400"/>
            </a:xfrm>
            <a:prstGeom prst="line">
              <a:avLst/>
            </a:prstGeom>
            <a:ln w="381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3" name="Straight Arrow Connector 14"/>
            <p:cNvCxnSpPr/>
            <p:nvPr/>
          </p:nvCxnSpPr>
          <p:spPr>
            <a:xfrm flipV="1">
              <a:off x="3123720" y="3809520"/>
              <a:ext cx="1143720" cy="305280"/>
            </a:xfrm>
            <a:prstGeom prst="straightConnector1">
              <a:avLst/>
            </a:prstGeom>
            <a:ln w="38160">
              <a:solidFill>
                <a:srgbClr val="ea157a"/>
              </a:solidFill>
              <a:miter/>
              <a:tailEnd len="med" type="arrow" w="med"/>
            </a:ln>
          </p:spPr>
        </p:cxnSp>
      </p:grpSp>
      <p:sp>
        <p:nvSpPr>
          <p:cNvPr id="374" name="TextBox 16"/>
          <p:cNvSpPr/>
          <p:nvPr/>
        </p:nvSpPr>
        <p:spPr>
          <a:xfrm>
            <a:off x="1954080" y="6297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al Disposabl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8"/>
          <p:cNvSpPr/>
          <p:nvPr/>
        </p:nvSpPr>
        <p:spPr>
          <a:xfrm rot="16200000">
            <a:off x="-943200" y="3610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al Consumer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9"/>
          <p:cNvSpPr/>
          <p:nvPr/>
        </p:nvSpPr>
        <p:spPr>
          <a:xfrm>
            <a:off x="5638680" y="2514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0"/>
          <p:cNvSpPr/>
          <p:nvPr/>
        </p:nvSpPr>
        <p:spPr>
          <a:xfrm>
            <a:off x="5638680" y="32004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1"/>
          <p:cNvSpPr/>
          <p:nvPr/>
        </p:nvSpPr>
        <p:spPr>
          <a:xfrm>
            <a:off x="5638680" y="41148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2"/>
          <p:cNvSpPr/>
          <p:nvPr/>
        </p:nvSpPr>
        <p:spPr>
          <a:xfrm rot="20653800">
            <a:off x="2548800" y="402876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vements along (indu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24" descr=""/>
          <p:cNvPicPr/>
          <p:nvPr/>
        </p:nvPicPr>
        <p:blipFill>
          <a:blip r:embed="rId1"/>
          <a:stretch/>
        </p:blipFill>
        <p:spPr>
          <a:xfrm>
            <a:off x="5730840" y="2620800"/>
            <a:ext cx="1644840" cy="15606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5"/>
          <p:cNvSpPr/>
          <p:nvPr/>
        </p:nvSpPr>
        <p:spPr>
          <a:xfrm>
            <a:off x="6781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hifts (autono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Paradox of Thrif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aradox of Thrif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the idea that an effort by a nation to save more may simply reduce national income and fail to raise total sav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other words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 our attempt to save more, autonomous decrease in spending, there was a multiplied decrease in GDP and disposable income, leaving us with less with which to sav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58Z</dcterms:created>
  <dc:creator>sth_user</dc:creator>
  <dc:description/>
  <dc:language>en-US</dc:language>
  <cp:lastModifiedBy>HP Authorized Customer</cp:lastModifiedBy>
  <dcterms:modified xsi:type="dcterms:W3CDTF">2009-01-27T22:04:13Z</dcterms:modified>
  <cp:revision>16</cp:revision>
  <dc:subject/>
  <dc:title>Slide 1</dc:title>
</cp:coreProperties>
</file>